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7B5-F6C0-4187-962E-268A2E94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F02-3CB1-4C77-9EAA-498F6F21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6DC-9781-4B73-90B3-5B10ACBE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FCF-A36C-4372-A550-52872DAB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D8D2-D22D-47AA-BE49-143B30C4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C98D-0B23-4D59-A206-430B959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82E-0E2D-49C3-B09C-A3722251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56FF-41C5-4B66-9396-23C0F301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8DD8-71AE-4C71-8664-6BF5B1ED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780-98F6-4A7D-823B-4E4A2187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A0D-662A-4A0D-A88D-CF8CAC9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C55-01F1-4331-8296-352B2933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AF0F-8B9D-4C58-AF86-EFF9DCB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B4A-2C86-4635-A730-6E197DE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8BE-DA2C-4C31-8E9C-8CBAD338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A4B4-2B29-4DFE-9B02-65F79AF4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AD6E-87EE-4BE9-9F92-B8D4EC9E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C41-F49E-49BE-AF11-7695CEE2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77F-7D77-4FF7-A1D8-EFBEE523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EFB-7EE4-43E8-9CFD-D642544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30C-F706-4CEA-A3B9-12FA427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721-06D6-48E7-B9B3-4ECB21BE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375-E420-49BE-BB01-82B81B4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06D-91E2-4780-A75A-6C30E967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5DD-C152-4C0D-9112-BC22977AC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57F0-7237-479C-9DF3-D9A5D46D0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Ecologie" TargetMode="External"/><Relationship Id="rId2" Type="http://schemas.openxmlformats.org/officeDocument/2006/relationships/hyperlink" Target="http://ro.wikipedia.org/wiki/Ecosfer&#259;" TargetMode="External"/><Relationship Id="rId3" Type="http://schemas.openxmlformats.org/officeDocument/2006/relationships/hyperlink" Target="http://ro.wikipedia.org/wiki/Biotop" TargetMode="External"/><Relationship Id="rId4" Type="http://schemas.openxmlformats.org/officeDocument/2006/relationships/hyperlink" Target="http://ro.wikipedia.org/wiki/Biocenoz&#259;" TargetMode="External"/><Relationship Id="rId5" Type="http://schemas.openxmlformats.org/officeDocument/2006/relationships/hyperlink" Target="http://ro.wikipedia.org/wiki/Ap&#259;" TargetMode="External"/><Relationship Id="rId6" Type="http://schemas.openxmlformats.org/officeDocument/2006/relationships/hyperlink" Target="http://ro.wikipedia.org/wiki/V&#226;nt" TargetMode="External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b7"/>
                </a:solidFill>
                <a:latin typeface="Arial Black"/>
              </a:rPr>
              <a:t>ECOSISTEMU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364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În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ecolog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u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si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e o unitate de funcţionare şi organizare a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ecosfere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cătuită din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biot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şi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biocenoz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şi capabilă de productivitate biologică. Ecosistemul cuprinde şi relaţiile dintre biotop şi biocenoz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iotop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rezintă totalitatea factorilor abiotici (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ap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vânt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ia solară, clima, umiditatea) şi relaţiile dintre e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iocenoz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rezintă un nivel de organizare a materiei format din populaţii legate teritorial, şi pe studiul interacţiunii acestor populaţ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ecosistem nu are graniţe definite, astfel el poate avea dimensiuni foarte mari (deşertul Sahara), sau dimensiuni foarte mici (un iaz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628640"/>
          <a:ext cx="821844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08360" cy="583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743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b7"/>
                </a:solidFill>
                <a:latin typeface="Arial Black"/>
              </a:rPr>
              <a:t>Fişă de lucru</a:t>
            </a: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0" lang="ro-RO" sz="2000" spc="-1" strike="noStrike">
                <a:solidFill>
                  <a:srgbClr val="3333cc"/>
                </a:solidFill>
                <a:latin typeface="Arial Black"/>
              </a:rPr>
              <a:t>1. Ce ecosisteme sunt reprezentate în imagine</a:t>
            </a: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?</a:t>
            </a:r>
            <a:br>
              <a:rPr sz="2000"/>
            </a:br>
            <a:r>
              <a:rPr b="0" lang="ro-RO" sz="2000" spc="-1" strike="noStrike">
                <a:solidFill>
                  <a:srgbClr val="3333cc"/>
                </a:solidFill>
                <a:latin typeface="Arial Black"/>
              </a:rPr>
              <a:t>2. Care sunt elementele de biotop şi biocenoză prezente</a:t>
            </a: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4259160"/>
                <a:gridCol w="42483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33880" cy="446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24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ISTEM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9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TOP</a:t>
                      </a: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ACTORI FĂRĂ VIAŢ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CENO</a:t>
                      </a: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- FACTORI CU VIAŢ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atori primari,.........,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.........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2800" spc="-1" strike="noStrike">
                <a:solidFill>
                  <a:srgbClr val="ffffb7"/>
                </a:solidFill>
                <a:latin typeface="Arial Black"/>
              </a:rPr>
              <a:t>Aceste două componente ale ecosistemului se află în strânsă corelaţie, influentându-se reciproc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64920"/>
            <a:ext cx="80074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x- plantele, arborii-reduc intensitatea vântului prin coronament, iar vântul ajută la împrăştierea seminţe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nimalele- elimină în mediu excrementele, ce îmbogătesc solul în substanţe orga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Arial"/>
              </a:rPr>
              <a:t>Daţi alte exemple prin care să arataţi influenţa reciprocă dintre biotop şi biocenoz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Organizarea spaţială a mediulu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aţierea mediului poate f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 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orizontală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o-RO" sz="3200" spc="-1" strike="noStrike">
                <a:solidFill>
                  <a:srgbClr val="99ff66"/>
                </a:solidFill>
                <a:latin typeface="Arial"/>
              </a:rPr>
              <a:t>spaţii mic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vizuine, scorbura copacilor, muşuroaie de fur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o-RO" sz="3200" spc="-1" strike="noStrike">
                <a:solidFill>
                  <a:srgbClr val="99ff66"/>
                </a:solidFill>
                <a:latin typeface="Arial"/>
              </a:rPr>
              <a:t>spaţii mar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– cioturi de copaci, cadavrele unor animale m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 verticală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– în funcţie de înălţimea plante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nc</a:t>
            </a: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ţ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ile ecosistemului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. Funcţia de circulaţie a mater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2. Funcţia de circulaţie a energ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3. Funcţia de autoregl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8:18:54Z</dcterms:created>
  <dc:creator>nicolas</dc:creator>
  <dc:description/>
  <dc:language>en-US</dc:language>
  <cp:lastModifiedBy>nicolas</cp:lastModifiedBy>
  <dcterms:modified xsi:type="dcterms:W3CDTF">2007-10-23T08:55:35Z</dcterms:modified>
  <cp:revision>2</cp:revision>
  <dc:subject/>
  <dc:title>ECOSISTEMUL</dc:title>
</cp:coreProperties>
</file>